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9B19-4A06-4E47-8867-F22957871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3ED1-6188-4A5A-90FF-591F9F65E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7AD9-1058-434D-A3CD-6990D5D5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1209-14EA-4460-A55E-E44B23AC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6990-1588-4D72-8850-BBACA1E4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8EE0-5E73-4F79-B862-1F3F24E0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72C2-04E4-424F-8741-C70F5DBA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208F-7033-4AA0-8760-1247C415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E300-7274-4CA4-856A-676DFE57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7153-6780-47F1-AB34-040F44E6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2845-69FF-4245-AD02-EBBC0ECE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7CCF-1F03-4BA4-9A1E-072D331C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105E-20A1-4CF2-AB8F-298C1853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44E8-E8D6-4061-8F0A-B95B00D8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5565-2164-42BB-9086-6A693A87AD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Project indic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Targe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rice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approach: Maiz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47" name="Content Placeholder 3" descr=""/>
          <p:cNvPicPr/>
          <p:nvPr/>
        </p:nvPicPr>
        <p:blipFill>
          <a:blip r:embed="rId1"/>
          <a:stretch/>
        </p:blipFill>
        <p:spPr>
          <a:xfrm>
            <a:off x="914400" y="1908000"/>
            <a:ext cx="6480000" cy="43167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4"/>
          <p:cNvSpPr/>
          <p:nvPr/>
        </p:nvSpPr>
        <p:spPr>
          <a:xfrm>
            <a:off x="2057400" y="6222960"/>
            <a:ext cx="4495680" cy="4064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IITA (20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Oval 2"/>
          <p:cNvSpPr/>
          <p:nvPr/>
        </p:nvSpPr>
        <p:spPr>
          <a:xfrm>
            <a:off x="6781680" y="3048120"/>
            <a:ext cx="2133720" cy="21333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 x 25 = Yr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25 x 15 = Yr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375 x 5 = Yr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36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tF Global Indicato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come and Output/impact levels -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 (management indicat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ion and approval process by the USAID mission in Qr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to six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nual targ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of standardized forms for better reporting and monit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tF Project indicato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228600" y="1752480"/>
          <a:ext cx="8686800" cy="4846680"/>
        </p:xfrm>
        <a:graphic>
          <a:graphicData uri="http://schemas.openxmlformats.org/drawingml/2006/table">
            <a:tbl>
              <a:tblPr/>
              <a:tblGrid>
                <a:gridCol w="3352680"/>
                <a:gridCol w="838440"/>
                <a:gridCol w="1447560"/>
                <a:gridCol w="1447920"/>
                <a:gridCol w="914400"/>
                <a:gridCol w="685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farmers and others who have applied new technologies or management practices as a result of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umber of rice hectares under improved technologies or management practices as a result of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3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umber of individuals who have received USG supported short-term agricultural sector productivity or food security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tF Project indicato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52280" y="1576440"/>
          <a:ext cx="8686800" cy="5029200"/>
        </p:xfrm>
        <a:graphic>
          <a:graphicData uri="http://schemas.openxmlformats.org/drawingml/2006/table">
            <a:tbl>
              <a:tblPr/>
              <a:tblGrid>
                <a:gridCol w="3353040"/>
                <a:gridCol w="838080"/>
                <a:gridCol w="1447920"/>
                <a:gridCol w="1447560"/>
                <a:gridCol w="914400"/>
                <a:gridCol w="685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food security private enterprises (for profit), producers organizations, water users associations, women's groups, trade and business associations, and community-based organizations (CBOs) receiving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umber of rural households benefiting directly from USG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umber of beneficiaries with home gardens or alternate crops as a proxy for access to nutritious foods and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Project Custom (Management)indicators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52280" y="1576440"/>
          <a:ext cx="8686800" cy="4191120"/>
        </p:xfrm>
        <a:graphic>
          <a:graphicData uri="http://schemas.openxmlformats.org/drawingml/2006/table">
            <a:tbl>
              <a:tblPr/>
              <a:tblGrid>
                <a:gridCol w="3353040"/>
                <a:gridCol w="838080"/>
                <a:gridCol w="1447920"/>
                <a:gridCol w="1447560"/>
                <a:gridCol w="914400"/>
                <a:gridCol w="685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mother demonstration gardens estab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9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aby demonstration gardens estab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3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grand baby demonstration gardens estab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spillover households using improved technologies from the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5-07-08T16:22:07Z</dcterms:modified>
  <cp:revision>26</cp:revision>
  <dc:subject/>
  <dc:title>PowerPoint Presentation</dc:title>
</cp:coreProperties>
</file>